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6.jpeg" ContentType="image/jpeg"/>
  <Override PartName="/ppt/media/image10.wmf" ContentType="image/x-wmf"/>
  <Override PartName="/ppt/media/image25.jpeg" ContentType="image/jpeg"/>
  <Override PartName="/ppt/media/image30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31.wmf" ContentType="image/x-wmf"/>
  <Override PartName="/ppt/media/image36.wmf" ContentType="image/x-wmf"/>
  <Override PartName="/ppt/media/image6.wmf" ContentType="image/x-wmf"/>
  <Override PartName="/ppt/media/image34.jpeg" ContentType="image/jpeg"/>
  <Override PartName="/ppt/media/image35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4.wmf" ContentType="image/x-wmf"/>
  <Override PartName="/ppt/media/image33.wmf" ContentType="image/x-wmf"/>
  <Override PartName="/ppt/media/image3.wmf" ContentType="image/x-wmf"/>
  <Override PartName="/ppt/media/image15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E00A-993D-49A8-A116-A59AFB69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need to smell the odor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, waft the fumes towar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nose with one hand.  Do 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t your nose over the contain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hale the fu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ur water into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acid.  Acid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poured slowly into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instructions of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when disposing of al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after hand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 electrical cords where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trip on them or g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ght i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your hands and your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are dry before us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oke anything in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out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cords by pulling the plu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ot the c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lug all electrical equipm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the lab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urners and hotplates coo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before touching them. Te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e if they are cool enough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nging the back of your h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ongs and/or protective glo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ndle hot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reach across an open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bur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ype of glassware that m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ly be heated is either Kimax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point the top ends of test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heated away from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ing a test tube, mov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slowly over the flame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heat eve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glassware that is thorough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hould be h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glassware by placing it o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gauze platform on a ring stand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old it in your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ghting a burner, wait until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ker is in place before you turn 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The amount of air can be adjust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supply valve below the tub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rner.  This regulates the fla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col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leave a burner or hotpla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tte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ly flush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until bur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ation is less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, bru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touch an open wou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safety gloves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ing directly on min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s will stop bleeding in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minutes.  Apply co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ress to brui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wel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Listen to or read instruc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ly before attempting to d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ear safety goggles to protect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from chemicals, heat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, or things that migh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le to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fy your teacher if any spills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idents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o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fresh air and have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 recline so that the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d is lower than the rest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Flush eyes immediat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lenty of water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minutes.  I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ign object is lodged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, do not allow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to be rub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ind out what subs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as responsible fo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isoning and aler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 on the sk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 Flush with lar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ntities of water. 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id spills, app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da solution.  For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pills, apply vinegar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or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y: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h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o Do: Shut off the current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.  Remove wi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ubber gloves.  Ale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immedi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handling chemicals, alway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your hands with soap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lab work, keep your ha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your 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e back long h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 Roll up loose slee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 Know the location of the fire extinguisher, fire blanket, eyewash station, and first aid k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Keep your work area uncluttered. Take to the lab station only what i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afety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uggested that you wea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es rather than contact l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put anything into your mou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ab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up your lab area a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of the laboratory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“horse around” or pla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jokes 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ped or cracked glassware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e used. Show it to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glassware should not b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osed of in a classroom trashcan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glass dispos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uring liquids into glasswar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the container you 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ing into is resting on a table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a hands breadth from the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ur down a glass stirring rod to prevent liquids from spl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If a piece of glassware gets broken, do not try to clean it up by yourself. Notif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When inserting glass tubing into a rubber stopper, apply a lubricant like glycerin to the glass and use a twist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ware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place hot glassware in water.  Rapid cooling may make it sh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r protective goggles and a la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 whenever heating or pour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mix chemicals together unle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told to do so (and then on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ner specif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 chemicals (you shoul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ver taste anything in the la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914-7813-4485-B324-EF7BDCF4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389-1A33-44B3-8196-A730002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7CB-B243-4761-A22B-C47643B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90A-E25B-433B-9107-165A2774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5816-9A54-4FED-B298-3DC98DCD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1E9-8AF1-468E-A5BE-C6FB3F29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FF1E-D14F-4BB4-AF84-F73CD93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54B0-79D7-47F8-BA73-3F94A40B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96A0-1AD0-48DE-A163-7854EF37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A822-4AB2-4C82-A27A-A3A80492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2EFD-5FB4-4D88-A989-A8F3760F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146-9B02-42C3-B185-A9ED74BD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B6A8-028E-4222-A4D4-1A66228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8A48-7428-4E58-AE0C-738AD0D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59BB-74A1-42B5-AF02-E0F5064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75EF-4350-4702-BFFD-B82C1432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993F-7F98-47FE-BA88-41E6989C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007-468F-4252-ACF3-6671CC73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823-95D4-433D-836E-9DBF1D68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1D7-04C3-4BAB-9DB3-82C9F80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39A-ED1D-4BE2-8727-A58F2A43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DF8-4658-4694-94AF-75A94ABB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549-5C0A-4E09-96C6-586850B7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A6B-5777-49A8-9A65-A9CF13B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292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C03-1B34-4E75-A089-089B285879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e574e"/>
                </a:solidFill>
                <a:latin typeface="Arial"/>
              </a:rPr>
              <a:t>Pflugerville ISD - Augus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9622-2ED6-4891-843A-4B20FE52E2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15080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95280" y="40924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cf202"/>
                </a:solidFill>
                <a:latin typeface="Comic Sans MS"/>
              </a:rPr>
              <a:t>Lab Safet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301920" y="2768760"/>
            <a:ext cx="2540160" cy="13204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need to smell the odor o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ft the fum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war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nose with one hand.  Do no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ut your nose over the containe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inhale the fu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ur water into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centrated acid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    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ould be poured slowly into wat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Object 5" descr=""/>
          <p:cNvPicPr/>
          <p:nvPr/>
        </p:nvPicPr>
        <p:blipFill>
          <a:blip r:embed="rId1"/>
          <a:stretch/>
        </p:blipFill>
        <p:spPr>
          <a:xfrm>
            <a:off x="8145360" y="1905120"/>
            <a:ext cx="998640" cy="144756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6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752480" cy="138744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9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ollow the instructi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you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when disposing of all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fter handl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Object 4" descr=""/>
          <p:cNvPicPr/>
          <p:nvPr/>
        </p:nvPicPr>
        <p:blipFill>
          <a:blip r:embed="rId1"/>
          <a:stretch/>
        </p:blipFill>
        <p:spPr>
          <a:xfrm>
            <a:off x="6095880" y="4191120"/>
            <a:ext cx="1200240" cy="1981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CHEMICAL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7543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a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cor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here n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can trip on them or ge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ught in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 sure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ands and your lab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rea are d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fore us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poke anything int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outle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7543800" y="1905120"/>
            <a:ext cx="1305000" cy="127764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6" descr=""/>
          <p:cNvPicPr/>
          <p:nvPr/>
        </p:nvPicPr>
        <p:blipFill>
          <a:blip r:embed="rId2"/>
          <a:stretch/>
        </p:blipFill>
        <p:spPr>
          <a:xfrm>
            <a:off x="6629400" y="4724280"/>
            <a:ext cx="1177920" cy="1600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ELECTRIC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lectr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nplug cords b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ulling the 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 not the co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plu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ll electrical equipm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d of the lab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Object 6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865160" cy="19047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ELECTRIC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5620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t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s and hotplates cool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wn before touching them. Tes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see if they are cool enough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ringing the back of your h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ose to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ongs and/or protective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handle hot obj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reach across an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open flam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 bu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THERMAL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nly type of glassware that ma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fely be heated is eith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Kimax o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yr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point th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top ends of test tub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at are being heated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rom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heating a test tube,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ove i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ound slowly over the flame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tribute the heat even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Object 4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2286000" cy="15667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THERMAL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glassware that is thorough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ry should be he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t glassware by placing it o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re gauz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latform on a ring st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hold it in your h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RINGSTAN"/>
          <p:cNvPicPr/>
          <p:nvPr/>
        </p:nvPicPr>
        <p:blipFill>
          <a:blip r:embed="rId1"/>
          <a:stretch/>
        </p:blipFill>
        <p:spPr>
          <a:xfrm>
            <a:off x="4038480" y="4419720"/>
            <a:ext cx="1509840" cy="2209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RONRING"/>
          <p:cNvPicPr/>
          <p:nvPr/>
        </p:nvPicPr>
        <p:blipFill>
          <a:blip r:embed="rId2"/>
          <a:stretch/>
        </p:blipFill>
        <p:spPr>
          <a:xfrm>
            <a:off x="4267080" y="4724280"/>
            <a:ext cx="809640" cy="260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THERMAL"/>
          <p:cNvPicPr/>
          <p:nvPr/>
        </p:nvPicPr>
        <p:blipFill>
          <a:blip r:embed="rId3"/>
          <a:stretch/>
        </p:blipFill>
        <p:spPr>
          <a:xfrm>
            <a:off x="6858000" y="0"/>
            <a:ext cx="2286000" cy="16714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ating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91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lighting a bu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wait until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riker is in place before you turn 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0. 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mount of air can be adjus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air supply valve below the tube of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rner.  This regulates the flam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mperature and col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ver leave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urner or hotplat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5" descr="BUNSENBU"/>
          <p:cNvPicPr/>
          <p:nvPr/>
        </p:nvPicPr>
        <p:blipFill>
          <a:blip r:embed="rId1"/>
          <a:stretch/>
        </p:blipFill>
        <p:spPr>
          <a:xfrm>
            <a:off x="7391520" y="4495680"/>
            <a:ext cx="1409760" cy="1828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FIRE"/>
          <p:cNvPicPr/>
          <p:nvPr/>
        </p:nvPicPr>
        <p:blipFill>
          <a:blip r:embed="rId2"/>
          <a:stretch/>
        </p:blipFill>
        <p:spPr>
          <a:xfrm>
            <a:off x="7086600" y="0"/>
            <a:ext cx="1905120" cy="139392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mediately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flush with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d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ntil burn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ation is lesse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1506240" cy="2743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, bru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touch an open w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safety gloves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essing directly on minor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uts will stop blee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w minutes.  Apply co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ress to bruises to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duce swell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HARPOBJ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5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1981440" cy="175752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isten to or re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struction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efully before attempting to do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y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.  Wea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fety goggl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protect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our eyes from chemicals, heate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s, or things that might b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ble to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otify your teach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f any spills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idents occu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Object 5" descr=""/>
          <p:cNvPicPr/>
          <p:nvPr/>
        </p:nvPicPr>
        <p:blipFill>
          <a:blip r:embed="rId1"/>
          <a:stretch/>
        </p:blipFill>
        <p:spPr>
          <a:xfrm>
            <a:off x="5381640" y="5715000"/>
            <a:ext cx="1400040" cy="800280"/>
          </a:xfrm>
          <a:prstGeom prst="rect">
            <a:avLst/>
          </a:prstGeom>
          <a:ln w="0">
            <a:noFill/>
          </a:ln>
        </p:spPr>
      </p:pic>
      <p:pic>
        <p:nvPicPr>
          <p:cNvPr id="98" name="Object 6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876600" cy="766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irst Ai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in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o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e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ir and have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 recline so that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d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n the re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ir bod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1787760" cy="182880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ey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mmediate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plenty of water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ral minutes.  If 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eign object is lodged i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ye, do not allow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ye to be rubb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213840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7" descr="EYE"/>
          <p:cNvPicPr/>
          <p:nvPr/>
        </p:nvPicPr>
        <p:blipFill>
          <a:blip r:embed="rId2"/>
          <a:stretch/>
        </p:blipFill>
        <p:spPr>
          <a:xfrm>
            <a:off x="6934320" y="0"/>
            <a:ext cx="2209680" cy="16178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Find out what subst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as responsible for 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poisoning an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lert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teacher immediat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4" descr="POISON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161604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pills on the sk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sh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larg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antities of water.  F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cid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aki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oda solution.  Fo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as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 spill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apply vinegar or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oric a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Picture 4" descr="CHEMIC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irst Aid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jury: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lectrical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To Do: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hut of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e current 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.  Remove wir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ubber glo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 Aler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er immediate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ELECTRIC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3939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5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1690920" cy="27432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fter handling chemicals, alway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sh your hand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 soap and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uring lab work,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eep your hands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way from your fa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e back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ng hai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7477200" y="2209680"/>
            <a:ext cx="1666800" cy="1235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5" descr=""/>
          <p:cNvPicPr/>
          <p:nvPr/>
        </p:nvPicPr>
        <p:blipFill>
          <a:blip r:embed="rId2"/>
          <a:stretch/>
        </p:blipFill>
        <p:spPr>
          <a:xfrm>
            <a:off x="5715000" y="4495680"/>
            <a:ext cx="1652760" cy="16765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76276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 Roll up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ose sleev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8.  Know th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fire extinguisher, fire blanket, eyewash station, and first aid k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.  Keep you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ork area unclutter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Take to the lab station only what is necessa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Object 4" descr=""/>
          <p:cNvPicPr/>
          <p:nvPr/>
        </p:nvPicPr>
        <p:blipFill>
          <a:blip r:embed="rId1"/>
          <a:stretch/>
        </p:blipFill>
        <p:spPr>
          <a:xfrm>
            <a:off x="7315200" y="1676520"/>
            <a:ext cx="1523880" cy="122220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5" descr=""/>
          <p:cNvPicPr/>
          <p:nvPr/>
        </p:nvPicPr>
        <p:blipFill>
          <a:blip r:embed="rId2"/>
          <a:stretch/>
        </p:blipFill>
        <p:spPr>
          <a:xfrm>
            <a:off x="3352680" y="5143680"/>
            <a:ext cx="2286000" cy="1601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eneral Safety Ru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suggested that you wea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glas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ather than contact le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ver put anything into you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mouth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a lab experi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ean u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r lab area at th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of the laboratory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Never “horse around”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pla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al jokes in the laborato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7391520" y="0"/>
            <a:ext cx="1371600" cy="1287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" descr=""/>
          <p:cNvPicPr/>
          <p:nvPr/>
        </p:nvPicPr>
        <p:blipFill>
          <a:blip r:embed="rId2"/>
          <a:stretch/>
        </p:blipFill>
        <p:spPr>
          <a:xfrm>
            <a:off x="7848720" y="4952880"/>
            <a:ext cx="987480" cy="17528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8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hipped or cracked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be used. Show it to the teac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Broken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hould not b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posed of in a classroom trashcan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ecial glass dispos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ainer for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ouring liquids into glassw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sure the container you ar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uring into is resting on a table 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a hands breadth from the 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Pour down a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ass stirring r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prevent liquids from splatte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. If a piece of glassware gets broken, do not try to clean it up by yourself.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otify the teach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. When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inserting glass tubin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o a rubber stopper, apply a lubricant like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glycer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 the glass and use a twisting mo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5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Glassware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 not place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ot glasswar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water.  Rapid cooling may make it sha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DISPOSAL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449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1712880" cy="2235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hemical Safet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8487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protective goggle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d a lab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on whenever heating or pouring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zardous chemic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mix chemical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ogether unles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are told to do so (and then only in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manner specifie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Never tas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y chemicals (you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ver taste anything in the lab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Object 5" descr=""/>
          <p:cNvPicPr/>
          <p:nvPr/>
        </p:nvPicPr>
        <p:blipFill>
          <a:blip r:embed="rId1"/>
          <a:stretch/>
        </p:blipFill>
        <p:spPr>
          <a:xfrm>
            <a:off x="7696080" y="1752480"/>
            <a:ext cx="1266840" cy="144792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941400" cy="121896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7">
            <a:hlinkClick r:id="" action="ppaction://hlinkshowjump?jump=previousslide"/>
          </p:cNvPr>
          <p:cNvSpPr/>
          <p:nvPr/>
        </p:nvSpPr>
        <p:spPr>
          <a:xfrm>
            <a:off x="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8" descr="CHEMICAL"/>
          <p:cNvPicPr/>
          <p:nvPr/>
        </p:nvPicPr>
        <p:blipFill>
          <a:blip r:embed="rId3"/>
          <a:stretch/>
        </p:blipFill>
        <p:spPr>
          <a:xfrm>
            <a:off x="6705720" y="0"/>
            <a:ext cx="2438280" cy="1784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06:14:36Z</dcterms:created>
  <dc:creator>Cheryl Massengale</dc:creator>
  <dc:description/>
  <dc:language>en-US</dc:language>
  <cp:lastModifiedBy>LEGION</cp:lastModifiedBy>
  <dcterms:modified xsi:type="dcterms:W3CDTF">2016-12-07T09:27:21Z</dcterms:modified>
  <cp:revision>73</cp:revision>
  <dc:subject/>
  <dc:title>Lab Safety</dc:title>
</cp:coreProperties>
</file>